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5300-B8BE-430E-B740-BD32C37BAA6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D1FCD-EE8C-4CA3-8400-4CCA15114DC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6503B-4ACC-4CBC-927E-E7C68974952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A1834-3342-453C-8B5E-8482FF1931A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5285C-36D6-4929-B729-7156939BA7D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D2DD5-D664-408B-BA3A-77FC9AD41AD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87924-1795-4D6A-9F75-DC35B2C2615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9FEF-5A03-465F-AECF-9F3EE5F386C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F7DF6-293C-4D29-BDEB-AACCD4463B6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D79BF-7987-4E28-9280-766F88A826F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B648D-EB10-4124-9F97-E9EB646A92B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0BB9D-DEEF-41A0-B2A7-6FA7B72765F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1D5E3-EDD2-4AA1-B37A-4FBB1768A1F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372BD-2935-4291-9E99-805F2BC9DD9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4909B-96BC-4DEC-A3A4-351FA03713F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184E6-1628-437F-A37A-3D18C100BA6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A4744-69BF-434F-808B-A41DBA19BA9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DF622-4410-4B87-9EB1-A68F453192D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03414-CEB4-4A7E-BC96-8BE03488D6C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6845D-8600-4C38-8CC2-B4274FA49B0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FEF99-38BB-4ADF-B2BD-E8AEBB72FFF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B0883-8D12-4624-B417-5BF7FEA4FCC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5C5D0-6C50-41CA-9326-8D6A4CEF896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4DFCD-E23F-44B2-9F7F-9282DA9F4CE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3FE4B-DE1C-4F06-97B5-3D23AB43F40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E8A5F-7282-41ED-BCB0-E27180969A6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6213F-0AEB-4CE3-BB3D-33B26D64BE2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140C1-1941-451B-947F-A84F407E63D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1F4B1-C70C-4627-A011-A678E442729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2DDDB-97E3-43DC-BC78-F7ADEE2A7C6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E9B29-62F5-421C-BBC8-1E71A86C29E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B186F-231B-4E12-B633-4A4ACD52AA7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4DB7-ADC4-4E52-978F-5353E2E0143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C8E44-CB3A-4F78-B5CA-A46DA77CC62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CD32D-A64C-4491-8831-11B87805BA0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920A2-DFCE-43DF-A782-BBED9B63DA9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31DBA-D8C8-40A8-A7F0-36D856981A9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1671-9146-4696-93E1-09CF9F52E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E754-7F67-48C3-B319-BF8738D9B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1E55-E485-4F8A-90FA-9370DF82C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ECBD-5B52-4FE5-86E5-CEBA3D3A2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907F-4582-407C-BBC9-9A0548B46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41C7-3B75-44E8-AEA6-3708B3A35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50C4-E5D8-47FB-A519-090580A11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C818-0C15-4863-95F1-D3A5CD184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9C88-BB99-4A91-B26E-A29261A51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9396-8BEC-4566-BF2C-3F3A22B4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E5CB-EC60-4A64-AD0E-C4398B99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0808-B1D8-411E-89D6-79DC98B9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0CC6E-3228-4358-9247-044EB2D5B317}" type="slidenum">
              <a:rPr b="0" lang="ko-K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边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iā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가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변두리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拿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ná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가지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只是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hǐshì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단지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同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tó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같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而已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éryǐ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뿐이다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日语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Rìyǔ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일본어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普通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pǔtō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보통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苦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kǔ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쓰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客人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kèré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손님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完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wá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동작의 완료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要是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àosh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만약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坐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uò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앉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主人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hǔré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주인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以为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ǐwé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8"/>
          <p:cNvSpPr/>
          <p:nvPr/>
        </p:nvSpPr>
        <p:spPr>
          <a:xfrm rot="10800000">
            <a:off x="215640" y="5090760"/>
            <a:ext cx="638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라고 여기다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准备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zhǔnbèi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준비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够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gòu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충분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剩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hè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8"/>
          <p:cNvSpPr/>
          <p:nvPr/>
        </p:nvSpPr>
        <p:spPr>
          <a:xfrm rot="10800000">
            <a:off x="215640" y="5090760"/>
            <a:ext cx="638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남다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남기다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情况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7"/>
          <p:cNvSpPr/>
          <p:nvPr/>
        </p:nvSpPr>
        <p:spPr>
          <a:xfrm rot="10800000">
            <a:off x="333000" y="6690600"/>
            <a:ext cx="626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000000"/>
                </a:solidFill>
                <a:latin typeface="Arial"/>
              </a:rPr>
              <a:t>qíngkuàng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상황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一样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íyà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같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安排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ānpá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준비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窗户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chuānghu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창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擦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cā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닦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凉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liá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차갑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打开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ǎkā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열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记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jì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기억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事情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hìqi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일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趁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chè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을 틈타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丰盛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7"/>
          <p:cNvSpPr/>
          <p:nvPr/>
        </p:nvSpPr>
        <p:spPr>
          <a:xfrm rot="10800000">
            <a:off x="333000" y="6690600"/>
            <a:ext cx="626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000000"/>
                </a:solidFill>
                <a:latin typeface="Arial"/>
              </a:rPr>
              <a:t>fēngshèng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풍성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厨艺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chúyì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요리솜씨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帮忙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7"/>
          <p:cNvSpPr/>
          <p:nvPr/>
        </p:nvSpPr>
        <p:spPr>
          <a:xfrm rot="10800000">
            <a:off x="333000" y="6690600"/>
            <a:ext cx="626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000000"/>
                </a:solidFill>
                <a:latin typeface="Arial"/>
              </a:rPr>
              <a:t>bāngmáng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도와주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香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xiā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향기롭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勺子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sháoz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숟가락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除了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chúle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외에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汤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tā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탕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국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以外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ǐwà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외에도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筷子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kuàiz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젓가락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8T02:20:51Z</dcterms:created>
  <dc:creator>System</dc:creator>
  <dc:description/>
  <dc:language>en-US</dc:language>
  <cp:lastModifiedBy>System</cp:lastModifiedBy>
  <dcterms:modified xsi:type="dcterms:W3CDTF">2014-01-28T02:57:59Z</dcterms:modified>
  <cp:revision>4</cp:revision>
  <dc:subject/>
  <dc:title>슬라이드 1</dc:title>
</cp:coreProperties>
</file>